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81E-D95B-475D-857D-BF828C39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81E-C70D-4D8E-BAF5-F68EB43C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705-4B40-4BA7-B83D-4E18321A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4DE-F54A-4E6D-BE24-4038877D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F74A-27CA-43BB-82C4-19537265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1DB1-B76F-4F85-9659-7EECE33B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B9D9-AF84-4498-83A1-9FA66175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715F-5AC2-4D47-AE26-8AC71D74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AB41-BAB9-421A-929A-AB8EFB0C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358A-2582-4E1A-8467-5BF6371C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105A-73F4-4360-A11A-63E49D8D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D49-890C-456A-A541-7FEB452F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41D1-3A04-42E1-9F08-9C6BAB36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6137-D581-4566-A33C-C953068D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904E-DC77-4189-90E5-AE2F3968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792D-C340-4D3B-87D1-D022BB6B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45C9-EBF8-4124-AD7F-FBD9DA50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0898-AB3D-4922-AC6F-759CBD76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3DB-F66B-48C8-A3C1-20EBB7A1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85E-2EBE-4CB1-B8BE-3B6E50F9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0D0-139E-4C6C-8D5E-DF248FD8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C73-AB03-47B0-97F2-929B2B36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BAC6-1F5D-4BC0-B203-9E02D968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A8D5-CC79-4187-B3F2-2B6C0E53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2240" indent="-2887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3480" indent="-2872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24640" indent="-26028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2360" indent="-247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7718-92B0-4421-9FA3-1C08581468C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4D5D-93AB-479F-86AB-573FCF02028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inguish between mechanical and electromagnetic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inguish between transverse and longitudin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chanical 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speed of a wave only depends on its med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ould not possibly make a slinky wave go faster or slower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 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unchan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34290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chanical 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784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2920" indent="-3204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requency = How often the particles of a medium vibrate as the wave passes through.  (cycles/ti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cy is measured in Hertz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Hz = 1 cycle/seco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73392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chanical 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784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iod = The time for a particle in a medium to make one complete vibration cycle.  (ti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73392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chanical 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127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2240" indent="-2887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velength = The length of one wave cycle. (dista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240" indent="-2887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’ll find that wavelength, frequency, and period are insepa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3480" indent="-2872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ng wave naturally takes longer to happen, and thus happens less of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73392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chanical 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784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7600" indent="-3240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plitude = The maximum amount of displacement of a particle from its rest position. (dista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45280" indent="-32256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rest = “Top” or “peak” of the w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5280" indent="-32256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ough = “Bottom” or “valley” of the w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73392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chanical 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0280" indent="-3416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plitude and wavelength can be easily conf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3398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length = distance from crest to c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3398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tude = distance from crest to standstill, the place where the particle would be if there were no wave at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39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out using your notes, answer these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two kinds of wav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7920" indent="-31176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essential difference between th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two kinds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echani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v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7920" indent="-31176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essential difference between th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ve Equ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ors students must memorize these.  College prep students need not, but must be able to use them in problems neverthel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peed = Wavelength/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120" indent="-2836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is this?  (Remember that speed = distance/ti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peed = Wavelength x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120" indent="-2836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ll that frequency = cycles/tim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dterm Inf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49200" indent="-2710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you may bring to the midter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9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least two #2 penc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9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own calculator (recommend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9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one page outline for the essay (I CANNOT PRINT IT FOR YO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9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LORNT grid, if you are doing essay #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2710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you will be provided with on the midter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9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or, unit conversions sheet (doesn’t include metric prefixes!), periodic table from textbook, vocabulary list (no defini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dterm Inf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5600" indent="-3380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s everyone needs to memoriz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-3366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sity, percent 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s you will be provided if you are in College Pre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-3366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gravity, both wave eq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Univer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8240" indent="-317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 universe can obviously NOT be directly measur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240" indent="-317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ssential indirect measurement is necessary to study the universe - light.  And to understand light, we need to understand wa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240" indent="-317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with your partner: What is a wa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dterm Inf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2920" indent="-32040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info forthcoming on study strategies, format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is work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280" indent="-31896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the homework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ir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36280" indent="-31896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start studying for the midte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actice Probl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interval shows one full waveleng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interval shows amplitu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6390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actice Probl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nterval shows one full wavelength?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-E, B-F, or C-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nterval shows amplitude?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-B, B-C, C-D, D-E, E-F, F-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6390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1920" indent="-3276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ave = a disturbance that propagates (“moves”) through space and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19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1920" indent="-3276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with your partner: Come up with as many things that travel in waves as you c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58560" indent="-2782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kinds of waves.  One difference involves a medium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dium = matter or 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8560" indent="-2782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omagnetic wave = electric/magnetic radiation.  Doe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need a medium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ncludes radio waves, microwaves, X-rays, l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8560" indent="-2782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chanical wave = an oscillation (movement) of matter. 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e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need a medium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ncludes sound, ocean waves, seismic wa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chanical 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9240" indent="-30996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cal waves are easier for most people to visualize, so we’ll start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240" indent="-30996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nky 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8560" indent="-30852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 with the slinky.  Find and describe two different types of mechanical waves.  Contrast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8560" indent="-30852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them: describe ways that each of those two waves can v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9280" indent="-3488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inguish between transverse and longitudin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-3488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the main five qualities or properties of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ble to use the wave equa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chanical 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7600" indent="-3240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kinds of mechanic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45280" indent="-3225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ransverse wave = wave moves perpendicular to the direction of the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45280" indent="-3225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ngitudinal wave = wave moves parallel to the direction of the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153040" y="2057400"/>
            <a:ext cx="3990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chanical 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cal waves are described in terms of these qualities: speed, frequency, period, wavelength, and amplitu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peed = the d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veled in a span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me. (distance/ti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34290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0:26:46Z</dcterms:created>
  <dc:creator>Rebecca Stang</dc:creator>
  <dc:description/>
  <dc:language>en-US</dc:language>
  <cp:lastModifiedBy>Rebecca Stang</cp:lastModifiedBy>
  <dcterms:modified xsi:type="dcterms:W3CDTF">2010-01-21T15:32:51Z</dcterms:modified>
  <cp:revision>168</cp:revision>
  <dc:subject/>
  <dc:title>Waves</dc:title>
</cp:coreProperties>
</file>